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27BB-D2AE-4734-82E4-E8E01C50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678-79F2-4DDA-9949-31D7945C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614-ED28-43BA-850C-8D70DAE7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80B-037E-458D-ACDB-E4D5B251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97D-1105-4E1A-9EEC-262F2404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60D-936F-4C62-8C8E-B3C86F91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115-E0EA-4354-99C3-3F0BC28F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8F8-D320-4A63-8ACD-FCBBFAE1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5E7-716A-4AB6-B5A6-9DA0410F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61F-6B19-43DA-A117-AE0717A9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F9C-8AC2-4726-9888-09B8925F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867-2646-4311-BB5C-1C4FC80A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69CA-C04F-447C-86B8-00BC51D94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Mo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18872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c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w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opla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y get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43400" y="1143000"/>
            <a:ext cx="4038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(uni-cellu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ake it (autotrop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have to find it (heterotrop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pneumoni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3429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by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19720" y="2286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(cocc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 (bacill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al (spiril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114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occus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0" y="2286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cc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-60480" y="56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acillus_bacteria1"/>
          <p:cNvPicPr/>
          <p:nvPr/>
        </p:nvPicPr>
        <p:blipFill>
          <a:blip r:embed="rId1"/>
          <a:stretch/>
        </p:blipFill>
        <p:spPr>
          <a:xfrm>
            <a:off x="-228600" y="-228600"/>
            <a:ext cx="10287000" cy="7709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762120" y="457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cil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u-spiril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457200" y="457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ir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28600" y="5335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MSj03886080000[1].wav" descr=""/>
          <p:cNvPicPr/>
          <p:nvPr/>
        </p:nvPicPr>
        <p:blipFill>
          <a:blip r:embed="rId1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3553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8:35:49Z</dcterms:created>
  <dc:creator>Jean Kavanagh</dc:creator>
  <dc:description/>
  <dc:language>en-US</dc:language>
  <cp:lastModifiedBy>Jean Kavanagh</cp:lastModifiedBy>
  <dcterms:modified xsi:type="dcterms:W3CDTF">2010-05-05T18:43:24Z</dcterms:modified>
  <cp:revision>51</cp:revision>
  <dc:subject/>
  <dc:title>The Uni-Cellular Kingdoms</dc:title>
</cp:coreProperties>
</file>